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ng" ContentType="image/png"/>
  <Override PartName="/ppt/media/image4.pct" ContentType="image/x-pict"/>
  <Override PartName="/ppt/media/image7.png" ContentType="image/png"/>
  <Override PartName="/ppt/media/image5.pct" ContentType="image/x-pict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7E12-8443-4855-BAB6-30F100E8D3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  a  1hr 15 mins lecture, the following slides were omit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P multicast implementation of basic multi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P multicast implementation of reliable multi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plementation of FIFO multicast over basic multi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SIS algorithm for totally ordered multi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one of these topics could have been included in the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rrect in an asynchronous nsystem - no timing assum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efficient - each message is sent |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|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iggybacked values in a message allow recipients to learn about messages they have not yet recei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error in book Figure in 1st impr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rict range of a multicast by setting the time to 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asons for doing this are: 1) for efficiency 2) to prevent sending to another group  elsewhere with the same 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ordering is also FIFO because the sender’s messages arrive in order at sequen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is not cau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a sequencer may become bottlen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a sequencer is a critical point of 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can improve this by storing message at</a:t>
            </a:r>
            <a:r>
              <a:rPr b="0" i="1" lang="en-GB" sz="1800" spc="-1" strike="noStrike">
                <a:solidFill>
                  <a:srgbClr val="009999"/>
                </a:solidFill>
                <a:latin typeface="Arial"/>
              </a:rPr>
              <a:t> f</a:t>
            </a: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+ 1 nodes before delivering, so as  to tolerate up to </a:t>
            </a:r>
            <a:r>
              <a:rPr b="0" i="1" lang="en-GB" sz="1800" spc="-1" strike="noStrike">
                <a:solidFill>
                  <a:srgbClr val="009999"/>
                </a:solidFill>
                <a:latin typeface="Arial"/>
              </a:rPr>
              <a:t>f</a:t>
            </a: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 fail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Members inform it as to the latest sequence number they have seen (piggyback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If a member stops multicasting, the sequencer will not know what they have received. To solve this problem, members send 'heartbeat messages'  containing sequnce nu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B-multicasts a message to members of the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ing processes propose numbers and return them to the send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der uses proposed numbers to generate agreed numb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 has delivered from pj Vi[j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j has delivered Vj[k] need to wait until Vi[k]=&gt;Vj[k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n CO-deliver to self immediately after B-multi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broadcast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means delivery to all local proc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ill discuss reliability of 1-1 channels in a min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bitrary failures - e.g. sending false messages such as untrue ack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cess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can belong to more than one group - but to simplify often restrict it to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es, IP multicast does support both open and closed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k implosions - multicaster is sent acks by members and so many arrive that it may drop somne of them, so it retransmits and gets yet more ac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51AF-F068-4E9C-9360-5859C7665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BC9E-F583-4BE1-82CD-6E1B5AC6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CB57-1A22-4DE8-A5FD-980E40D59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2B3F-FFF3-4DD9-970F-C12F3D8EE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46531-5ECF-4FC4-9F7A-A8C63BBB8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D12B-4B1D-4297-88DD-F6FC4254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E7B7-709F-4C23-824E-7667BEAD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BB8D6-5518-411E-BDC8-0B130E9D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410E-1BDB-43BF-A539-9A87C5E8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39200" y="228600"/>
            <a:ext cx="8888760" cy="34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4253C-A245-4536-82DC-D190AEAD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10F1-84F3-40F9-A1C4-89F79F75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805E-1F3F-4E57-8172-EABE0C8B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2BE2E-3500-48DB-9E34-7ECB67C7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7EBE-C3B9-46BF-A491-3185E46C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9DDE-6BFB-4275-A80D-5F85902C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2A6E-7140-4153-A548-49804D40E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0B2E8-EA59-4CBA-99D6-BAFAEB47A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617C-9663-451E-9E36-1063F10F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006D-51F2-4A20-AA3F-930CC50D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EFBB-B282-4821-B3CB-3885C63C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9200" y="228600"/>
            <a:ext cx="8888760" cy="34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C3BC-B007-4DE8-BE06-5684756A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1667-2E01-44F3-B2DE-763643EC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C829-EC8B-4F12-BCB2-7318D389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AD5C-AD4C-433C-988C-06E170E9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400800"/>
            <a:ext cx="15955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45960" y="6400800"/>
            <a:ext cx="60260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45E5-3CC5-43CC-929E-D90B9A1CF9D5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4800" y="6400800"/>
            <a:ext cx="1099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4D03-C53B-43C1-99F0-E2C998DDC8B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95360" y="114300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10960" y="68544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70040" y="6229080"/>
            <a:ext cx="2092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11360" y="6229080"/>
            <a:ext cx="3083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15464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60BB-1E28-43EA-9B38-034E769B783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360" y="259092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2800" y="2833560"/>
            <a:ext cx="20131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pyright © George Coulouris, Jean Dollimore, Tim Kindberg 2001 email: 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authors@cdk2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material is made available for private study and for direct use by individual teac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may not be included in any product or employed in any service without the written permission of the auth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4600" y="5191200"/>
            <a:ext cx="178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0217"/>
                </a:solidFill>
                <a:latin typeface="Times New Roman"/>
              </a:rPr>
              <a:t>Viewing: These slides must be viewed in slide show mod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9800" y="1352520"/>
            <a:ext cx="1130400" cy="1434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68280" y="304920"/>
            <a:ext cx="1592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ing material based on Distributed Systems: Concepts and Design, Edition 3, Addison-Wesley 200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6633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66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10960" y="68544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Distributed Systems Course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Coordination and Agreement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66880" y="2529000"/>
            <a:ext cx="6934320" cy="37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66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11.4</a:t>
            </a: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    Multicast communication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  <a:p>
            <a:pPr>
              <a:buClr>
                <a:srgbClr val="66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 Black"/>
              </a:rPr>
              <a:t>this chapter covers other types of coordination and agreement such as mutual exclusion, elections and consensus. We will study only multicast.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  <a:p>
            <a:pPr>
              <a:lnSpc>
                <a:spcPct val="110000"/>
              </a:lnSpc>
              <a:buClr>
                <a:srgbClr val="66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 Black"/>
              </a:rPr>
              <a:t>But we will study the two-phase commit protocol for transactions in Chapter 12, which is an example of consensus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  <a:p>
            <a:pPr>
              <a:buClr>
                <a:srgbClr val="66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 Black"/>
              </a:rPr>
              <a:t>We also omit the discussion of failure detectors which is relevant to replication 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Reliable multicast algorithm over basic multicast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360" y="1326960"/>
            <a:ext cx="8859600" cy="4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processes can belong to several closed groups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065240" y="2286000"/>
            <a:ext cx="7605720" cy="4176720"/>
            <a:chOff x="1065240" y="2286000"/>
            <a:chExt cx="7605720" cy="417672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1065240" y="2286000"/>
              <a:ext cx="7605720" cy="41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992560" y="2478240"/>
              <a:ext cx="161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Figure 11.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890520" y="3427560"/>
            <a:ext cx="5400720" cy="2276280"/>
            <a:chOff x="3890520" y="3427560"/>
            <a:chExt cx="5400720" cy="2276280"/>
          </a:xfrm>
        </p:grpSpPr>
        <p:sp>
          <p:nvSpPr>
            <p:cNvPr id="144" name=""/>
            <p:cNvSpPr/>
            <p:nvPr/>
          </p:nvSpPr>
          <p:spPr>
            <a:xfrm>
              <a:off x="5104080" y="4416480"/>
              <a:ext cx="4187160" cy="398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imitives R-multicast and R-deli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3890520" y="3427560"/>
              <a:ext cx="1754280" cy="9871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3911400" y="4797360"/>
              <a:ext cx="1833480" cy="9064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2494080" y="1351080"/>
            <a:ext cx="6732360" cy="703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-multicast a message, a process  B-multicasts it to processes in the group including itse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511000" y="2828880"/>
            <a:ext cx="6841080" cy="1206720"/>
            <a:chOff x="2511000" y="2828880"/>
            <a:chExt cx="6841080" cy="1206720"/>
          </a:xfrm>
        </p:grpSpPr>
        <p:sp>
          <p:nvSpPr>
            <p:cNvPr id="149" name=""/>
            <p:cNvSpPr/>
            <p:nvPr/>
          </p:nvSpPr>
          <p:spPr>
            <a:xfrm>
              <a:off x="2619360" y="2828880"/>
              <a:ext cx="6732720" cy="703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en a messag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is B-delivered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the recipien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B-multicasts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it to the group, the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R-delivers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it. Duplicates are detected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2511000" y="3584520"/>
              <a:ext cx="1101960" cy="4510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457200" y="493560"/>
            <a:ext cx="7807320" cy="398880"/>
          </a:xfrm>
          <a:prstGeom prst="rect">
            <a:avLst/>
          </a:prstGeom>
          <a:solidFill>
            <a:srgbClr val="a1c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ity - a correct process will B-deliver to itse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4880" y="480960"/>
            <a:ext cx="7926480" cy="703800"/>
          </a:xfrm>
          <a:prstGeom prst="rect">
            <a:avLst/>
          </a:prstGeom>
          <a:solidFill>
            <a:srgbClr val="a1c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grity - because the reliable 1-1 channels used for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-multicas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guarantee integr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1040" y="185760"/>
            <a:ext cx="8836200" cy="1008720"/>
          </a:xfrm>
          <a:prstGeom prst="rect">
            <a:avLst/>
          </a:prstGeom>
          <a:solidFill>
            <a:srgbClr val="a1c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reement - every correct proces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-multicas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e message to the others. I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oes no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-deliv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en this is because it didn’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-delive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because no others did ei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57560" y="6156360"/>
            <a:ext cx="7162560" cy="3988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can you say about the  performance of this algorith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01840" y="6157800"/>
            <a:ext cx="7116840" cy="3988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this algorithm correct in an asynchronous syste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36600" y="5851440"/>
            <a:ext cx="7116840" cy="1008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iable multicast can be implemented efficiently over IP multicast  by holding back messages until every member can receive them. We skip tha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Reliable multicast over IP multicast (page 440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4360" y="1171440"/>
            <a:ext cx="8639280" cy="33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This protocol assumes groups are closed.  It uses: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piggybacked acknowledgement messages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negative acknowledgements when messages are missed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Process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maintains: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S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a message sequence number for each group it belongs to and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R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Arial"/>
              </a:rPr>
              <a:t>q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sequence number of latest message received from process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q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to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For process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to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R-multicas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message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to group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piggyback 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S</a:t>
            </a:r>
            <a:r>
              <a:rPr b="0" lang="en-GB" sz="1800" spc="-1" strike="noStrike" baseline="30000">
                <a:solidFill>
                  <a:srgbClr val="663300"/>
                </a:solidFill>
                <a:latin typeface="Arial"/>
              </a:rPr>
              <a:t>p</a:t>
            </a:r>
            <a:r>
              <a:rPr b="0" lang="en-GB" sz="18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 and +ve acks for messages received in the form &lt;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q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R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Arial"/>
              </a:rPr>
              <a:t>q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IP multicasts the message  to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, increments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 S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by 1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7960" y="4567320"/>
            <a:ext cx="8614080" cy="19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A process on receipt by of a message to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with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from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Iff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=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R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+1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R-deliver 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the message and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increment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 R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1800" spc="-1" strike="noStrike" baseline="30000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by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If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≤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R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1800" spc="-1" strike="noStrike" baseline="30000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discard the 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If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&gt;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R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+ 1 or if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R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&lt;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R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Arial"/>
              </a:rPr>
              <a:t>q</a:t>
            </a:r>
            <a:r>
              <a:rPr b="0" lang="en-GB" sz="18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(for enclosed ack &lt;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q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,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R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&gt;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then it has missed messages and requests them with negative acknowledg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puts new message in hold-back queue for later deliv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0640" y="2413080"/>
            <a:ext cx="8323200" cy="703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iggybacked values in a message allow recipients to learn about messages they have not yet 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e hold-back queue for arriving multicast message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95360" y="1447920"/>
            <a:ext cx="885960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The hold back queue is not necessary for reliability as in the implementation using IP muilticast, but it simplifies the protocol, allowing sequence numbers to represent sets of messages. Hold-back queues are also used for ordering protocols.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44520" y="3198960"/>
            <a:ext cx="5813280" cy="3303360"/>
            <a:chOff x="344520" y="3198960"/>
            <a:chExt cx="5813280" cy="3303360"/>
          </a:xfrm>
        </p:grpSpPr>
        <p:pic>
          <p:nvPicPr>
            <p:cNvPr id="166" name="" descr=""/>
            <p:cNvPicPr/>
            <p:nvPr/>
          </p:nvPicPr>
          <p:blipFill>
            <a:blip r:embed="rId1"/>
            <a:stretch/>
          </p:blipFill>
          <p:spPr>
            <a:xfrm>
              <a:off x="1324080" y="3198960"/>
              <a:ext cx="4833720" cy="33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344520" y="5124600"/>
              <a:ext cx="161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Figure 11.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Reliability properties of reliable multicast over IP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Integrity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- duplicate messages detected and rejected.</a:t>
            </a:r>
            <a:br>
              <a:rPr sz="2400"/>
            </a:b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IP multicast uses checksums to reject corrupt messages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Validity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- due to IP multicast in which sender delivers to itself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Agreemen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- processes can detect missing messages. They must keep copies of messages they have delivered so that they can re-transmit them to others.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discarding of copies of messages that are no longer needed :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when piggybacked acknowledgements arrive, note which processes have received messages. When all processes in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have the message, discard it.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problem of a process that stops sending - use ‘heartbeat’ messages.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This protocol has been implemented in a practical way in Psynch and Trans (refs. on p442)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1.4.3 Ordered multicast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The basic multicast algorithm delivers messages to processes in an arbitrary order. A variety of orderings may be implemented: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FIFO ordering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If a correct process issues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ulticast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) and then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ulticast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,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’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), then every correct process that delivers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’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will deliver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before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’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Causal ordering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If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ulticast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) </a:t>
            </a:r>
            <a:r>
              <a:rPr b="0" lang="en-GB" sz="1800" spc="-1" strike="noStrike">
                <a:solidFill>
                  <a:srgbClr val="6633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ulticast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,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’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), where </a:t>
            </a:r>
            <a:r>
              <a:rPr b="0" lang="en-GB" sz="1800" spc="-1" strike="noStrike">
                <a:solidFill>
                  <a:srgbClr val="6633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is the happened-before relation between messages in group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, then any correct process that delivers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’ 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will deliver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before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’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.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Total ordering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If a correct process delivers message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before it delivers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’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, then any other correct process that delivers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’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 will deliver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before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’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Ordering is expensive in delivery latency and bandwidth consumption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otal, FIFO and causal ordering of multicast message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9040" y="4786200"/>
            <a:ext cx="3056040" cy="1163880"/>
          </a:xfrm>
          <a:prstGeom prst="rect">
            <a:avLst/>
          </a:prstGeom>
          <a:solidFill>
            <a:srgbClr val="ffb0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se definitions do not imply reliability, but we can define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tomic multicas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- reliable and totally ordere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809880" y="1347840"/>
            <a:ext cx="5302440" cy="5056560"/>
            <a:chOff x="3809880" y="1347840"/>
            <a:chExt cx="5302440" cy="5056560"/>
          </a:xfrm>
        </p:grpSpPr>
        <p:pic>
          <p:nvPicPr>
            <p:cNvPr id="178" name="" descr=""/>
            <p:cNvPicPr/>
            <p:nvPr/>
          </p:nvPicPr>
          <p:blipFill>
            <a:blip r:embed="rId1"/>
            <a:stretch/>
          </p:blipFill>
          <p:spPr>
            <a:xfrm>
              <a:off x="3809880" y="1347840"/>
              <a:ext cx="5302440" cy="501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6454440" y="6005520"/>
              <a:ext cx="161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Figure 11.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507960" y="1378080"/>
            <a:ext cx="3032280" cy="1621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ice the consistent ordering of totally ordered message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y are opposite to real ti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rder can be arbit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need not be FIFO or caus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0800" y="3090960"/>
            <a:ext cx="2827440" cy="614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 the FIFO-related message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8480" y="3879720"/>
            <a:ext cx="2737080" cy="891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the causally related message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14840" y="2647800"/>
            <a:ext cx="5315040" cy="1067400"/>
          </a:xfrm>
          <a:prstGeom prst="rect">
            <a:avLst/>
          </a:prstGeom>
          <a:solidFill>
            <a:srgbClr val="ff70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dered multicast delivery is expensive in bandwidth and latency. Therefore the less expensive orderings (e.g. FIFO or causal) are chosen for applications for which they are sui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isplay from a bulletin board program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25760" y="3135240"/>
            <a:ext cx="190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56040" y="3135240"/>
            <a:ext cx="208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27280" y="5425920"/>
            <a:ext cx="205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25760" y="5425920"/>
            <a:ext cx="190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56040" y="5425920"/>
            <a:ext cx="208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42280" y="5425920"/>
            <a:ext cx="205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5360" y="1344240"/>
            <a:ext cx="8859600" cy="15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Users run bulletin board applications which multicast message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One multicast group per topic (e.g.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os.interesting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Require reliable multicast - so that all members receive message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Ordering: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243160" y="3309840"/>
            <a:ext cx="6815160" cy="3127320"/>
            <a:chOff x="2243160" y="3309840"/>
            <a:chExt cx="6815160" cy="3127320"/>
          </a:xfrm>
        </p:grpSpPr>
        <p:grpSp>
          <p:nvGrpSpPr>
            <p:cNvPr id="194" name=""/>
            <p:cNvGrpSpPr/>
            <p:nvPr/>
          </p:nvGrpSpPr>
          <p:grpSpPr>
            <a:xfrm>
              <a:off x="2243160" y="3309840"/>
              <a:ext cx="6815160" cy="3127320"/>
              <a:chOff x="2243160" y="3309840"/>
              <a:chExt cx="6815160" cy="3127320"/>
            </a:xfrm>
          </p:grpSpPr>
          <p:sp>
            <p:nvSpPr>
              <p:cNvPr id="195" name=""/>
              <p:cNvSpPr/>
              <p:nvPr/>
            </p:nvSpPr>
            <p:spPr>
              <a:xfrm>
                <a:off x="4335120" y="34196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ulletin board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615280" y="3398760"/>
                <a:ext cx="1191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500" spc="-1" strike="noStrike">
                    <a:solidFill>
                      <a:srgbClr val="000000"/>
                    </a:solidFill>
                    <a:latin typeface="New York"/>
                  </a:rPr>
                  <a:t> </a:t>
                </a:r>
                <a:r>
                  <a:rPr b="0" i="1" lang="en-GB" sz="1500" spc="-1" strike="noStrike">
                    <a:solidFill>
                      <a:srgbClr val="000000"/>
                    </a:solidFill>
                    <a:latin typeface="New York"/>
                  </a:rPr>
                  <a:t>os.interesting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243160" y="33098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263680" y="3309840"/>
                <a:ext cx="657540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858160" y="33098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243160" y="3328920"/>
                <a:ext cx="1440" cy="319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858160" y="3328920"/>
                <a:ext cx="1800" cy="319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309760" y="3865680"/>
                <a:ext cx="37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Ite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105720" y="3855960"/>
                <a:ext cx="439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Fro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436000" y="3855960"/>
                <a:ext cx="610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Subjec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243160" y="3668760"/>
                <a:ext cx="14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263680" y="3668760"/>
                <a:ext cx="7574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060720" y="3668760"/>
                <a:ext cx="229068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371920" y="3668760"/>
                <a:ext cx="1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392800" y="3668760"/>
                <a:ext cx="344628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858160" y="3668760"/>
                <a:ext cx="1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243160" y="3687840"/>
                <a:ext cx="1440" cy="419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041640" y="3687840"/>
                <a:ext cx="1440" cy="419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371920" y="3687840"/>
                <a:ext cx="1800" cy="419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858160" y="3687840"/>
                <a:ext cx="1800" cy="419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307600" y="4314960"/>
                <a:ext cx="204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2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069720" y="4314960"/>
                <a:ext cx="796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.Hanl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401080" y="4314960"/>
                <a:ext cx="462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Mac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838840" y="431496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898960" y="431496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243160" y="4125960"/>
                <a:ext cx="14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263680" y="4125960"/>
                <a:ext cx="7574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041640" y="4125960"/>
                <a:ext cx="14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060720" y="4125960"/>
                <a:ext cx="229068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371920" y="4125960"/>
                <a:ext cx="1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392800" y="4125960"/>
                <a:ext cx="344628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58160" y="4125960"/>
                <a:ext cx="1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243160" y="4146480"/>
                <a:ext cx="1440" cy="35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041640" y="4146480"/>
                <a:ext cx="19080" cy="37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371920" y="4146480"/>
                <a:ext cx="20880" cy="37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858160" y="4146480"/>
                <a:ext cx="1800" cy="35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307600" y="4692600"/>
                <a:ext cx="204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2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069720" y="4692600"/>
                <a:ext cx="7520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G.Josep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402880" y="4692600"/>
                <a:ext cx="1082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Microkerne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243160" y="4524480"/>
                <a:ext cx="1440" cy="35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041640" y="4524480"/>
                <a:ext cx="19080" cy="379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371920" y="4524480"/>
                <a:ext cx="20880" cy="379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858160" y="4524480"/>
                <a:ext cx="1800" cy="35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307600" y="5072040"/>
                <a:ext cx="204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2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069720" y="5072040"/>
                <a:ext cx="796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.Hanl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403240" y="5072040"/>
                <a:ext cx="1415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Re: Microkerne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243160" y="4903920"/>
                <a:ext cx="1440" cy="35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041640" y="4903920"/>
                <a:ext cx="19080" cy="37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371920" y="4903920"/>
                <a:ext cx="20880" cy="37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858160" y="4903920"/>
                <a:ext cx="1800" cy="35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307600" y="5450040"/>
                <a:ext cx="204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2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071160" y="5450040"/>
                <a:ext cx="1064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T.L’Heureu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402880" y="5450040"/>
                <a:ext cx="1459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PC performa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243160" y="5281560"/>
                <a:ext cx="1440" cy="35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041640" y="5281560"/>
                <a:ext cx="19080" cy="379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371920" y="5281560"/>
                <a:ext cx="20880" cy="379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858160" y="5281560"/>
                <a:ext cx="1800" cy="35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307600" y="5829480"/>
                <a:ext cx="204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27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71880" y="5829480"/>
                <a:ext cx="828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M.Walk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401440" y="5829480"/>
                <a:ext cx="794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: Mac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243160" y="5661000"/>
                <a:ext cx="1440" cy="357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041640" y="5661000"/>
                <a:ext cx="19080" cy="37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371920" y="5661000"/>
                <a:ext cx="20880" cy="37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58160" y="5661000"/>
                <a:ext cx="1800" cy="357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272680" y="6181560"/>
                <a:ext cx="294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en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243160" y="6039000"/>
                <a:ext cx="1440" cy="35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243160" y="64166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63680" y="6416640"/>
                <a:ext cx="7574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1640" y="6039000"/>
                <a:ext cx="19080" cy="37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041640" y="6416640"/>
                <a:ext cx="14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060720" y="6416640"/>
                <a:ext cx="22906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371920" y="6039000"/>
                <a:ext cx="20880" cy="37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371920" y="6416640"/>
                <a:ext cx="180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392800" y="6416640"/>
                <a:ext cx="34462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858160" y="6039000"/>
                <a:ext cx="1800" cy="35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858160" y="64166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8878680" y="6416640"/>
                <a:ext cx="179640" cy="20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7053120" y="5845320"/>
              <a:ext cx="161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Figure 11.1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0" y="3205080"/>
            <a:ext cx="2278080" cy="1313640"/>
            <a:chOff x="0" y="3205080"/>
            <a:chExt cx="2278080" cy="1313640"/>
          </a:xfrm>
        </p:grpSpPr>
        <p:sp>
          <p:nvSpPr>
            <p:cNvPr id="274" name=""/>
            <p:cNvSpPr/>
            <p:nvPr/>
          </p:nvSpPr>
          <p:spPr>
            <a:xfrm>
              <a:off x="0" y="3205080"/>
              <a:ext cx="1752480" cy="13136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3300"/>
                  </a:solidFill>
                  <a:latin typeface="Arial"/>
                </a:rPr>
                <a:t>total (makes the numbers the same at all site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692360" y="3951360"/>
              <a:ext cx="585720" cy="4824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2751120" y="4493880"/>
            <a:ext cx="3027600" cy="2115360"/>
            <a:chOff x="2751120" y="4493880"/>
            <a:chExt cx="3027600" cy="2115360"/>
          </a:xfrm>
        </p:grpSpPr>
        <p:sp>
          <p:nvSpPr>
            <p:cNvPr id="277" name=""/>
            <p:cNvSpPr/>
            <p:nvPr/>
          </p:nvSpPr>
          <p:spPr>
            <a:xfrm>
              <a:off x="2751120" y="6210360"/>
              <a:ext cx="3027600" cy="398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3300"/>
                  </a:solidFill>
                  <a:latin typeface="Arial"/>
                </a:rPr>
                <a:t>FIFO (gives sender or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flipV="1">
              <a:off x="4092480" y="4493880"/>
              <a:ext cx="1168560" cy="17334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 flipV="1">
              <a:off x="4071600" y="5179680"/>
              <a:ext cx="523800" cy="1089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6532200" y="3765600"/>
            <a:ext cx="3208320" cy="1414440"/>
            <a:chOff x="6532200" y="3765600"/>
            <a:chExt cx="3208320" cy="1414440"/>
          </a:xfrm>
        </p:grpSpPr>
        <p:sp>
          <p:nvSpPr>
            <p:cNvPr id="281" name=""/>
            <p:cNvSpPr/>
            <p:nvPr/>
          </p:nvSpPr>
          <p:spPr>
            <a:xfrm>
              <a:off x="7056000" y="3765600"/>
              <a:ext cx="2684520" cy="1008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3300"/>
                  </a:solidFill>
                  <a:latin typeface="Arial"/>
                </a:rPr>
                <a:t>causal (makes replies come after original messag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6532200" y="4616280"/>
              <a:ext cx="543960" cy="1810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855840" y="4716360"/>
              <a:ext cx="644400" cy="4636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mplementation of FIFO ordering over basic multicast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95360" y="138564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We discuss FIFO ordered multicast with operations </a:t>
            </a:r>
            <a:br>
              <a:rPr sz="2400"/>
            </a:b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FO-multicas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FO-deliver 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for non-overlapping groups. It can be implemented on top of any basic multicast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Each process p holds: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S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a count of messages sent by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to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and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R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Arial"/>
              </a:rPr>
              <a:t>q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the sequence number of the latest message to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that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delivered from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For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to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FO-multicas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a message to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, it piggybacks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S</a:t>
            </a:r>
            <a:r>
              <a:rPr b="0" i="1" lang="en-GB" sz="2400" spc="-1" strike="noStrike" baseline="30000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GB" sz="24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2400" spc="-1" strike="noStrike" baseline="-25000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on the message, 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B-multicasts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it and increments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S</a:t>
            </a:r>
            <a:r>
              <a:rPr b="0" i="1" lang="en-GB" sz="2400" spc="-1" strike="noStrike" baseline="30000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GB" sz="24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2400" spc="-1" strike="noStrike" baseline="-25000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by 1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On receipt of a message from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q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with sequence number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checks whether 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=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R</a:t>
            </a:r>
            <a:r>
              <a:rPr b="0" i="1" lang="en-GB" sz="2400" spc="-1" strike="noStrike" baseline="30000">
                <a:solidFill>
                  <a:srgbClr val="663300"/>
                </a:solidFill>
                <a:latin typeface="Arial"/>
              </a:rPr>
              <a:t>q</a:t>
            </a:r>
            <a:r>
              <a:rPr b="0" i="1" lang="en-GB" sz="24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2400" spc="-1" strike="noStrike" baseline="-25000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+ 1. If so, it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FO-delivers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it.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if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 S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&gt;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R</a:t>
            </a:r>
            <a:r>
              <a:rPr b="0" i="1" lang="en-GB" sz="2400" spc="-1" strike="noStrike" baseline="30000">
                <a:solidFill>
                  <a:srgbClr val="663300"/>
                </a:solidFill>
                <a:latin typeface="Arial"/>
              </a:rPr>
              <a:t>q</a:t>
            </a:r>
            <a:r>
              <a:rPr b="0" i="1" lang="en-GB" sz="24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2400" spc="-1" strike="noStrike" baseline="-25000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+ 1 then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 places message in hold-back queue until intervening messages have been delivered. (note that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B-multicas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does eventually deliver messages unless the sender crashes)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mplementation of totally ordered multicast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The general approach is to attach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totally ordered identifiers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to multicast messages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each receiving process makes ordering decisions based on the identifiers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milar to the FIFO algorithm, but processes keep group specific sequence numbers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operations </a:t>
            </a: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TO-multicast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TO-deliver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we present two approaches to implementing total ordered multicast over basic multicast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using a sequencer (only for non-overlapping groups)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e processes in a group collectively agree on a sequence number for each message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774720" y="1359000"/>
            <a:ext cx="5678640" cy="5146920"/>
            <a:chOff x="774720" y="1359000"/>
            <a:chExt cx="5678640" cy="5146920"/>
          </a:xfrm>
        </p:grpSpPr>
        <p:grpSp>
          <p:nvGrpSpPr>
            <p:cNvPr id="292" name=""/>
            <p:cNvGrpSpPr/>
            <p:nvPr/>
          </p:nvGrpSpPr>
          <p:grpSpPr>
            <a:xfrm>
              <a:off x="774720" y="1359000"/>
              <a:ext cx="5678640" cy="5146920"/>
              <a:chOff x="774720" y="1359000"/>
              <a:chExt cx="5678640" cy="5146920"/>
            </a:xfrm>
          </p:grpSpPr>
          <p:pic>
            <p:nvPicPr>
              <p:cNvPr id="29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74720" y="1359000"/>
                <a:ext cx="5678640" cy="506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"/>
              <p:cNvSpPr/>
              <p:nvPr/>
            </p:nvSpPr>
            <p:spPr>
              <a:xfrm>
                <a:off x="2849400" y="6107040"/>
                <a:ext cx="1610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Arial"/>
                  </a:rPr>
                  <a:t>Figure 11.1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1170000" y="2297160"/>
              <a:ext cx="966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00160" y="4041720"/>
              <a:ext cx="966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otal ordering using a sequencer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3446640" y="1386000"/>
            <a:ext cx="6139800" cy="850680"/>
            <a:chOff x="3446640" y="1386000"/>
            <a:chExt cx="6139800" cy="850680"/>
          </a:xfrm>
        </p:grpSpPr>
        <p:sp>
          <p:nvSpPr>
            <p:cNvPr id="299" name=""/>
            <p:cNvSpPr/>
            <p:nvPr/>
          </p:nvSpPr>
          <p:spPr>
            <a:xfrm>
              <a:off x="3446640" y="1386000"/>
              <a:ext cx="6139800" cy="5806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 process wishing to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TO-multicast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to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attaches a unique id,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id(m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) and sends it to the sequencer and the membe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4777920" y="1935000"/>
              <a:ext cx="2440440" cy="3016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3431880" y="5098680"/>
            <a:ext cx="6412320" cy="991440"/>
            <a:chOff x="3431880" y="5098680"/>
            <a:chExt cx="6412320" cy="991440"/>
          </a:xfrm>
        </p:grpSpPr>
        <p:sp>
          <p:nvSpPr>
            <p:cNvPr id="302" name=""/>
            <p:cNvSpPr/>
            <p:nvPr/>
          </p:nvSpPr>
          <p:spPr>
            <a:xfrm>
              <a:off x="4324320" y="5122800"/>
              <a:ext cx="5519880" cy="967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The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sequencer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  keeps sequence number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i="1" lang="en-GB" sz="16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for group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When it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B-delivers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the message it multicasts an ‘order’ message to members of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and increments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i="1" lang="en-GB" sz="16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3431880" y="5098680"/>
              <a:ext cx="865080" cy="3618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394160" y="2276640"/>
            <a:ext cx="5016600" cy="657000"/>
            <a:chOff x="4394160" y="2276640"/>
            <a:chExt cx="5016600" cy="657000"/>
          </a:xfrm>
        </p:grpSpPr>
        <p:sp>
          <p:nvSpPr>
            <p:cNvPr id="305" name=""/>
            <p:cNvSpPr/>
            <p:nvPr/>
          </p:nvSpPr>
          <p:spPr>
            <a:xfrm>
              <a:off x="6253200" y="2276640"/>
              <a:ext cx="3157560" cy="657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ther processes: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B-deliver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&lt;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m,i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ut &lt;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m,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&gt; in hold-back queu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4394160" y="2600280"/>
              <a:ext cx="1774800" cy="2620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613480" y="3447720"/>
            <a:ext cx="3849480" cy="1468080"/>
            <a:chOff x="5613480" y="3447720"/>
            <a:chExt cx="3849480" cy="1468080"/>
          </a:xfrm>
        </p:grpSpPr>
        <p:sp>
          <p:nvSpPr>
            <p:cNvPr id="308" name=""/>
            <p:cNvSpPr/>
            <p:nvPr/>
          </p:nvSpPr>
          <p:spPr>
            <a:xfrm>
              <a:off x="5613480" y="3705120"/>
              <a:ext cx="3849480" cy="12106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B-deliver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order message, get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and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and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 i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from order mess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wait till &lt;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m,i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&gt; in queue and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= r</a:t>
              </a:r>
              <a:r>
                <a:rPr b="0" i="1" lang="en-GB" sz="16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TO-deliver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and set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i="1" lang="en-GB" sz="16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to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 flipV="1">
              <a:off x="6129000" y="3447720"/>
              <a:ext cx="1630440" cy="282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Revision of IP multicast (section 4.5.1 page154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IP multicast – an implementation of group communication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built on top of IP (note IP packets are addressed to computers)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allows the sender to transmit a single IP packet to a set of computers that form a multicast group (a class D internet address with first 4 bits 1110)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Dynamic membership of groups. Can send to a group  with or without joining it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To multicast, send a UDP datagram with a multicast address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To join, make a socket join a group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(s.joinGroup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group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) - Fig 4.17) enabling it to receive messages to the group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Multicast routers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Local messages use local multicast capability. Routers make it efficient by choosing other routers on the way.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Failure model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Omission failures </a:t>
            </a:r>
            <a:r>
              <a:rPr b="0" lang="en-GB" sz="1800" spc="-1" strike="noStrike">
                <a:solidFill>
                  <a:srgbClr val="663300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some but not all members may receive a message.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e.g. a recipient may drop message, or a multicast router may fail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IP packets may not arrive in sender order, group members can  receive messages in different orders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4560" y="484200"/>
            <a:ext cx="805968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can you restrict a multicast to the local area net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4680" y="595440"/>
            <a:ext cx="7916760" cy="8254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ive two reasons for restricting the scope of a multicast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iscussion of sequencer protocol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67920" y="1406160"/>
            <a:ext cx="8859960" cy="20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nce sequence numbers are defined by a sequencer, we have total ordering. 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Like B-multicast, if the sender does not crash, all members receive the message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03200" y="4408560"/>
            <a:ext cx="84582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Kaashoek’s protocol uses hardware-based multica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The sender transmits one message to sequencer,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the sequencer multicasts the sequence number and the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but IP multicast is not as reliable as B-multicast so the sequencer stores messages in its history buffer for retransmission on reque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members notice messages are missing by inspecting sequence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30080" y="3192480"/>
            <a:ext cx="6940800" cy="10688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3300"/>
                </a:solidFill>
                <a:latin typeface="Arial"/>
              </a:rPr>
              <a:t>What are the potential problems with using a single sequencer?</a:t>
            </a: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63720" y="5516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88720" y="536400"/>
            <a:ext cx="904284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can the sequencer do about its history buffer becoming ful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97000" y="614520"/>
            <a:ext cx="905652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Members piggyback on their messages the latest sequence number they have s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95200" y="581040"/>
            <a:ext cx="914256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happens when some member stops multicast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5200" y="555480"/>
            <a:ext cx="905688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Members that do not multicast send heartbeat messages (with a sequence numb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e ISIS algorithm for total ordering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14000" y="1366920"/>
            <a:ext cx="88599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s protocol is for open or closed groups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395440" y="1184040"/>
            <a:ext cx="7042680" cy="6665400"/>
            <a:chOff x="2395440" y="1184040"/>
            <a:chExt cx="7042680" cy="6665400"/>
          </a:xfrm>
        </p:grpSpPr>
        <p:grpSp>
          <p:nvGrpSpPr>
            <p:cNvPr id="324" name=""/>
            <p:cNvGrpSpPr/>
            <p:nvPr/>
          </p:nvGrpSpPr>
          <p:grpSpPr>
            <a:xfrm>
              <a:off x="2395440" y="1184040"/>
              <a:ext cx="7003080" cy="6665400"/>
              <a:chOff x="2395440" y="1184040"/>
              <a:chExt cx="7003080" cy="6665400"/>
            </a:xfrm>
          </p:grpSpPr>
          <p:sp>
            <p:nvSpPr>
              <p:cNvPr id="325" name=""/>
              <p:cNvSpPr/>
              <p:nvPr/>
            </p:nvSpPr>
            <p:spPr>
              <a:xfrm>
                <a:off x="5757840" y="3751200"/>
                <a:ext cx="620640" cy="647640"/>
              </a:xfrm>
              <a:prstGeom prst="ellipse">
                <a:avLst/>
              </a:prstGeom>
              <a:solidFill>
                <a:srgbClr val="ffdc99"/>
              </a:solidFill>
              <a:ln w="42840">
                <a:solidFill>
                  <a:srgbClr val="ffd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029440" y="2719800"/>
                <a:ext cx="650160" cy="617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2" y="11628"/>
                    </a:moveTo>
                    <a:arcTo wR="10800" hR="10800" stAng="10536107" swAng="237166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2" y="11628"/>
                    </a:moveTo>
                    <a:arcTo wR="10800" hR="10800" stAng="10536107" swAng="2371669"/>
                  </a:path>
                </a:pathLst>
              </a:custGeom>
              <a:solidFill>
                <a:srgbClr val="000000"/>
              </a:solidFill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054480" y="2895480"/>
                <a:ext cx="3215160" cy="241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86"/>
                    </a:moveTo>
                    <a:arcTo wR="10800" hR="10800" stAng="-10795487" swAng="634868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86"/>
                    </a:moveTo>
                    <a:arcTo wR="10800" hR="10800" stAng="-10795487" swAng="6348687"/>
                  </a:path>
                </a:pathLst>
              </a:custGeom>
              <a:noFill/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053040" y="3663000"/>
                <a:ext cx="618840" cy="617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074" y="3859"/>
                    </a:moveTo>
                    <a:arcTo wR="10800" hR="10800" stAng="-2399649" swAng="23996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074" y="3859"/>
                    </a:moveTo>
                    <a:arcTo wR="10800" hR="10800" stAng="-2399649" swAng="2399649"/>
                  </a:path>
                </a:pathLst>
              </a:custGeom>
              <a:solidFill>
                <a:srgbClr val="000000"/>
              </a:solidFill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8265600" y="3278520"/>
                <a:ext cx="619560" cy="650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241335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2413352"/>
                  </a:path>
                </a:pathLst>
              </a:custGeom>
              <a:solidFill>
                <a:srgbClr val="000000"/>
              </a:solidFill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435280" y="3130560"/>
                <a:ext cx="3095640" cy="1152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078" y="14116"/>
                    </a:moveTo>
                    <a:arcTo wR="10800" hR="10800" stAng="1072705" swAng="655571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078" y="14116"/>
                    </a:moveTo>
                    <a:arcTo wR="10800" hR="10800" stAng="1072705" swAng="6555716"/>
                  </a:path>
                </a:pathLst>
              </a:custGeom>
              <a:noFill/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635280" y="2039760"/>
                <a:ext cx="619200" cy="649440"/>
              </a:xfrm>
              <a:prstGeom prst="ellipse">
                <a:avLst/>
              </a:prstGeom>
              <a:solidFill>
                <a:srgbClr val="ffdc99"/>
              </a:solidFill>
              <a:ln w="42840">
                <a:solidFill>
                  <a:srgbClr val="ffd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29040" y="2040480"/>
                <a:ext cx="621720" cy="65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224" y="7976"/>
                    </a:moveTo>
                    <a:arcTo wR="10800" hR="10800" stAng="-909614" swAng="24040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224" y="7976"/>
                    </a:moveTo>
                    <a:arcTo wR="10800" hR="10800" stAng="-909614" swAng="2404048"/>
                  </a:path>
                </a:pathLst>
              </a:custGeom>
              <a:solidFill>
                <a:srgbClr val="000000"/>
              </a:solidFill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395440" y="2363400"/>
                <a:ext cx="3688920" cy="345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290" y="103"/>
                    </a:moveTo>
                    <a:arcTo wR="10800" hR="10800" stAng="-4924215" swAng="49242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290" y="103"/>
                    </a:moveTo>
                    <a:arcTo wR="10800" hR="10800" stAng="-4924215" swAng="4924215"/>
                  </a:path>
                </a:pathLst>
              </a:custGeom>
              <a:noFill/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634200" y="2334960"/>
                <a:ext cx="621000" cy="61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200" y="20153"/>
                    </a:moveTo>
                    <a:arcTo wR="10800" hR="10800" stAng="3599920" swAng="23852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200" y="20153"/>
                    </a:moveTo>
                    <a:arcTo wR="10800" hR="10800" stAng="3599920" swAng="2385224"/>
                  </a:path>
                </a:pathLst>
              </a:custGeom>
              <a:solidFill>
                <a:srgbClr val="000000"/>
              </a:solidFill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960360" y="1184040"/>
                <a:ext cx="4245840" cy="2920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2" y="21600"/>
                    </a:moveTo>
                    <a:arcTo wR="10800" hR="10800" stAng="5402570" swAng="479645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2" y="21600"/>
                    </a:moveTo>
                    <a:arcTo wR="10800" hR="10800" stAng="5402570" swAng="4796452"/>
                  </a:path>
                </a:pathLst>
              </a:custGeom>
              <a:noFill/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463360" y="3485880"/>
                <a:ext cx="648360" cy="648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00" y="7249"/>
                    </a:moveTo>
                    <a:arcTo wR="10800" hR="10800" stAng="-9648403" swAng="23868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00" y="7249"/>
                    </a:moveTo>
                    <a:arcTo wR="10800" hR="10800" stAng="-9648403" swAng="2386863"/>
                  </a:path>
                </a:pathLst>
              </a:custGeom>
              <a:solidFill>
                <a:srgbClr val="000000"/>
              </a:solidFill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958920" y="2363760"/>
                <a:ext cx="1563840" cy="1239840"/>
              </a:xfrm>
              <a:prstGeom prst="line">
                <a:avLst/>
              </a:prstGeom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870000" y="2276280"/>
                <a:ext cx="147600" cy="147600"/>
              </a:xfrm>
              <a:prstGeom prst="ellipse">
                <a:avLst/>
              </a:prstGeom>
              <a:solidFill>
                <a:srgbClr val="ffffff"/>
              </a:solidFill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076640" y="5903640"/>
                <a:ext cx="649080" cy="649440"/>
              </a:xfrm>
              <a:prstGeom prst="ellipse">
                <a:avLst/>
              </a:prstGeom>
              <a:solidFill>
                <a:srgbClr val="ffdc99"/>
              </a:solidFill>
              <a:ln w="42840">
                <a:solidFill>
                  <a:srgbClr val="ffd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522760" y="4076280"/>
                <a:ext cx="619200" cy="647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452" y="21068"/>
                    </a:moveTo>
                    <a:arcTo wR="10800" hR="10800" stAng="6483440" swAng="24127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452" y="21068"/>
                    </a:moveTo>
                    <a:arcTo wR="10800" hR="10800" stAng="6483440" swAng="2412701"/>
                  </a:path>
                </a:pathLst>
              </a:custGeom>
              <a:solidFill>
                <a:srgbClr val="000000"/>
              </a:solidFill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372200" y="5933880"/>
                <a:ext cx="650160" cy="648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148" y="5392"/>
                    </a:moveTo>
                    <a:arcTo wR="10800" hR="10800" stAng="-1803110" swAng="240305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148" y="5392"/>
                    </a:moveTo>
                    <a:arcTo wR="10800" hR="10800" stAng="-1803110" swAng="2403054"/>
                  </a:path>
                </a:pathLst>
              </a:custGeom>
              <a:solidFill>
                <a:srgbClr val="000000"/>
              </a:solidFill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281400" y="1891440"/>
                <a:ext cx="2831400" cy="436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48063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4806389"/>
                  </a:path>
                </a:pathLst>
              </a:custGeom>
              <a:noFill/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019400" y="5638680"/>
                <a:ext cx="646920" cy="650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007" y="367"/>
                    </a:moveTo>
                    <a:arcTo wR="10800" hR="10800" stAng="-6299126" swAng="237973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007" y="367"/>
                    </a:moveTo>
                    <a:arcTo wR="10800" hR="10800" stAng="-6299126" swAng="2379738"/>
                  </a:path>
                </a:pathLst>
              </a:custGeom>
              <a:solidFill>
                <a:srgbClr val="000000"/>
              </a:solidFill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44840" y="4074840"/>
                <a:ext cx="3418920" cy="377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1" y="9482"/>
                    </a:moveTo>
                    <a:arcTo wR="10800" hR="10800" stAng="-10379538" swAng="49763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1" y="9482"/>
                    </a:moveTo>
                    <a:arcTo wR="10800" hR="10800" stAng="-10379538" swAng="4976345"/>
                  </a:path>
                </a:pathLst>
              </a:custGeom>
              <a:noFill/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994360" y="4016160"/>
                <a:ext cx="147600" cy="147600"/>
              </a:xfrm>
              <a:prstGeom prst="ellipse">
                <a:avLst/>
              </a:prstGeom>
              <a:solidFill>
                <a:srgbClr val="ffffff"/>
              </a:solidFill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740120" y="31716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141960" y="4222440"/>
                <a:ext cx="649080" cy="79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929040" y="6227640"/>
                <a:ext cx="353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725720" y="3130200"/>
                <a:ext cx="147600" cy="266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725720" y="3130200"/>
                <a:ext cx="177840" cy="295560"/>
              </a:xfrm>
              <a:prstGeom prst="rect">
                <a:avLst/>
              </a:prstGeom>
              <a:noFill/>
              <a:ln w="42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238280" y="355752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503600" y="459072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709880" y="31446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991040" y="500364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344920" y="2836800"/>
                <a:ext cx="8892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344920" y="2836800"/>
                <a:ext cx="119160" cy="176040"/>
              </a:xfrm>
              <a:prstGeom prst="rect">
                <a:avLst/>
              </a:prstGeom>
              <a:noFill/>
              <a:ln w="42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472080" y="2589120"/>
                <a:ext cx="118044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 Message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20470800">
                <a:off x="6571440" y="3285720"/>
                <a:ext cx="1635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2 Proposed Se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938640" y="3898800"/>
                <a:ext cx="354240" cy="293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938640" y="3898800"/>
                <a:ext cx="382680" cy="323640"/>
              </a:xfrm>
              <a:prstGeom prst="rect">
                <a:avLst/>
              </a:prstGeom>
              <a:noFill/>
              <a:ln w="42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161880" y="228888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318840" y="2398680"/>
                <a:ext cx="107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574800" y="615456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731760" y="6262560"/>
                <a:ext cx="107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863760" y="506232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021080" y="5170320"/>
                <a:ext cx="107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9133920" y="314460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9291240" y="3252600"/>
                <a:ext cx="107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938640" y="4133520"/>
                <a:ext cx="235080" cy="88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938640" y="4133520"/>
                <a:ext cx="265320" cy="119160"/>
              </a:xfrm>
              <a:prstGeom prst="rect">
                <a:avLst/>
              </a:prstGeom>
              <a:noFill/>
              <a:ln w="42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294400" y="2923920"/>
                <a:ext cx="619200" cy="649440"/>
              </a:xfrm>
              <a:prstGeom prst="ellipse">
                <a:avLst/>
              </a:prstGeom>
              <a:solidFill>
                <a:srgbClr val="ffdc99"/>
              </a:solidFill>
              <a:ln w="42840">
                <a:solidFill>
                  <a:srgbClr val="ffd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V="1">
                <a:off x="4430520" y="4606920"/>
                <a:ext cx="1209600" cy="1591920"/>
              </a:xfrm>
              <a:prstGeom prst="line">
                <a:avLst/>
              </a:prstGeom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313160" y="6140160"/>
                <a:ext cx="176040" cy="176400"/>
              </a:xfrm>
              <a:prstGeom prst="ellipse">
                <a:avLst/>
              </a:prstGeom>
              <a:solidFill>
                <a:srgbClr val="ffffff"/>
              </a:solidFill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6612840" y="3219120"/>
                <a:ext cx="1917720" cy="649440"/>
              </a:xfrm>
              <a:prstGeom prst="line">
                <a:avLst/>
              </a:prstGeom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530920" y="3160440"/>
                <a:ext cx="147600" cy="177840"/>
              </a:xfrm>
              <a:prstGeom prst="ellipse">
                <a:avLst/>
              </a:prstGeom>
              <a:solidFill>
                <a:srgbClr val="ffffff"/>
              </a:solidFill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767440" y="3219120"/>
                <a:ext cx="324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964920" y="4325760"/>
                <a:ext cx="14745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3 Agreed Seq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526000" y="54162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232240" y="282096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7827840" y="5965920"/>
              <a:ext cx="161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Figure 11.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241200" y="2846520"/>
            <a:ext cx="3306960" cy="580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the proces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1  B-multicas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 message to members of the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44360" y="5095800"/>
            <a:ext cx="3668760" cy="8240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the sender uses the proposed numbers to generate an  agreed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68200" y="3807000"/>
            <a:ext cx="3776760" cy="580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the  receiving processes propose numbers and return them to the se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SIS total ordering - agreement of sequence number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Each process,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q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keeps: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A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Arial"/>
              </a:rPr>
              <a:t>q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 baseline="-25000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the largest agreed sequence number it has seen and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Arial"/>
              </a:rPr>
              <a:t>q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g 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its own largest proposed sequence number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1. 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Process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B-multicasts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&lt;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&gt; to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, where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is a unique identifier for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2.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Each process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q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replies to the sender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with a proposal for the message’s agreed sequence number of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Arial"/>
              </a:rPr>
              <a:t>q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:= Max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A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Arial"/>
              </a:rPr>
              <a:t>q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, P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Arial"/>
              </a:rPr>
              <a:t>q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) + 1.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assigns the proposed sequence number to the message and places it in its hold-back queue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3.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collects all the proposed sequence numbers and selects the largest as the next agreed sequence number,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. </a:t>
            </a:r>
            <a:br>
              <a:rPr sz="2400"/>
            </a:b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It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B-multicasts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&lt;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&gt; to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. Recipients set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A</a:t>
            </a:r>
            <a:r>
              <a:rPr b="0" i="1" lang="en-GB" sz="2400" spc="-1" strike="noStrike" baseline="30000">
                <a:solidFill>
                  <a:srgbClr val="663300"/>
                </a:solidFill>
                <a:latin typeface="Arial"/>
              </a:rPr>
              <a:t>q</a:t>
            </a:r>
            <a:r>
              <a:rPr b="0" i="1" lang="en-GB" sz="24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:= Max(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A</a:t>
            </a:r>
            <a:r>
              <a:rPr b="0" i="1" lang="en-GB" sz="2400" spc="-1" strike="noStrike" baseline="30000">
                <a:solidFill>
                  <a:srgbClr val="663300"/>
                </a:solidFill>
                <a:latin typeface="Arial"/>
              </a:rPr>
              <a:t>q</a:t>
            </a:r>
            <a:r>
              <a:rPr b="0" i="1" lang="en-GB" sz="24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) , attach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to the message and re-order hold-back queue.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iscussion of ordering in ISIS protocol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Hold-back queue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ordered with the message with the smallest sequence number at the front of the queue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when the agreed number is added to a message, the queue is re-ordered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when the message at the front has an agreed id, it is transferred to the delivery queue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even if agreed, those not at the front of the queue are not transferred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every process agrees on the same order and delivers messages in that order, therefore we have total ordering.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Latency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3 messages are sent in sequence, therefore it has a higher latency than sequencer method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s ordering may not be causal or FIFO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547880" y="1406520"/>
            <a:ext cx="485784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of of total ordering on page 4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ausally ordered multicast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We present an algorithm of Birman 1991 for causally ordered multicast in non-overlapping, closed groups. It uses the </a:t>
            </a:r>
            <a:r>
              <a:rPr b="0" i="1" lang="en-GB" sz="2800" spc="-1" strike="noStrike">
                <a:solidFill>
                  <a:srgbClr val="663300"/>
                </a:solidFill>
                <a:latin typeface="Arial"/>
              </a:rPr>
              <a:t>happened before</a:t>
            </a: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 relation (on multicast messages only)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that is, ordering imposed by one-to-one messages is not taken into account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It uses vector timestamps - that count the number of multicast messages from each process that happened before the next message to be multicas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ausal ordering using vector timestamp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293760" y="1798560"/>
            <a:ext cx="7799400" cy="4728240"/>
            <a:chOff x="293760" y="1798560"/>
            <a:chExt cx="7799400" cy="4728240"/>
          </a:xfrm>
        </p:grpSpPr>
        <p:grpSp>
          <p:nvGrpSpPr>
            <p:cNvPr id="397" name=""/>
            <p:cNvGrpSpPr/>
            <p:nvPr/>
          </p:nvGrpSpPr>
          <p:grpSpPr>
            <a:xfrm>
              <a:off x="293760" y="1798560"/>
              <a:ext cx="7799400" cy="4728240"/>
              <a:chOff x="293760" y="1798560"/>
              <a:chExt cx="7799400" cy="4728240"/>
            </a:xfrm>
          </p:grpSpPr>
          <p:pic>
            <p:nvPicPr>
              <p:cNvPr id="39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93760" y="1798560"/>
                <a:ext cx="7799400" cy="428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9" name=""/>
              <p:cNvSpPr/>
              <p:nvPr/>
            </p:nvSpPr>
            <p:spPr>
              <a:xfrm>
                <a:off x="3552840" y="5823000"/>
                <a:ext cx="1609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Arial"/>
                  </a:rPr>
                  <a:t>Figure 11.1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826920" y="3405240"/>
              <a:ext cx="134964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76360" y="5634000"/>
              <a:ext cx="13492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452520" y="1116000"/>
            <a:ext cx="2901600" cy="1484280"/>
            <a:chOff x="452520" y="1116000"/>
            <a:chExt cx="2901600" cy="1484280"/>
          </a:xfrm>
        </p:grpSpPr>
        <p:sp>
          <p:nvSpPr>
            <p:cNvPr id="403" name=""/>
            <p:cNvSpPr/>
            <p:nvPr/>
          </p:nvSpPr>
          <p:spPr>
            <a:xfrm>
              <a:off x="452520" y="1116000"/>
              <a:ext cx="2901600" cy="642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ach process has its own vector timestam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520360" y="1673280"/>
              <a:ext cx="222480" cy="927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3709800" y="1287360"/>
            <a:ext cx="5921640" cy="2017800"/>
            <a:chOff x="3709800" y="1287360"/>
            <a:chExt cx="5921640" cy="2017800"/>
          </a:xfrm>
        </p:grpSpPr>
        <p:sp>
          <p:nvSpPr>
            <p:cNvPr id="406" name=""/>
            <p:cNvSpPr/>
            <p:nvPr/>
          </p:nvSpPr>
          <p:spPr>
            <a:xfrm>
              <a:off x="4178160" y="1287360"/>
              <a:ext cx="5453280" cy="1008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o </a:t>
              </a: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CO-multicast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 to </a:t>
              </a: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, a process adds 1 to its entry in the vector timestamp and </a:t>
              </a:r>
              <a:br>
                <a:rPr sz="2000"/>
              </a:b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B-multicasts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 and the vector timesta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3709800" y="2216160"/>
              <a:ext cx="523800" cy="1089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3106440" y="2535120"/>
            <a:ext cx="6462720" cy="1919520"/>
            <a:chOff x="3106440" y="2535120"/>
            <a:chExt cx="6462720" cy="1919520"/>
          </a:xfrm>
        </p:grpSpPr>
        <p:sp>
          <p:nvSpPr>
            <p:cNvPr id="409" name=""/>
            <p:cNvSpPr/>
            <p:nvPr/>
          </p:nvSpPr>
          <p:spPr>
            <a:xfrm>
              <a:off x="4252680" y="2535120"/>
              <a:ext cx="5316480" cy="1008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en a process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B-delivers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it places it in a hold-back queue until messages earlier in the causal ordering have been delivered: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3106440" y="3506760"/>
              <a:ext cx="1128600" cy="9478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3770280" y="3755880"/>
            <a:ext cx="5886360" cy="1524240"/>
            <a:chOff x="3770280" y="3755880"/>
            <a:chExt cx="5886360" cy="1524240"/>
          </a:xfrm>
        </p:grpSpPr>
        <p:sp>
          <p:nvSpPr>
            <p:cNvPr id="412" name=""/>
            <p:cNvSpPr/>
            <p:nvPr/>
          </p:nvSpPr>
          <p:spPr>
            <a:xfrm>
              <a:off x="3770280" y="3755880"/>
              <a:ext cx="5886360" cy="1137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) earlier messages from same sender have been delivere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) any messages that the sender had delivered when it sent the multicast message  have been deliver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7660800" y="4836960"/>
              <a:ext cx="825480" cy="4431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90560" y="5764320"/>
            <a:ext cx="6066360" cy="721800"/>
            <a:chOff x="3490560" y="5764320"/>
            <a:chExt cx="6066360" cy="721800"/>
          </a:xfrm>
        </p:grpSpPr>
        <p:sp>
          <p:nvSpPr>
            <p:cNvPr id="415" name=""/>
            <p:cNvSpPr/>
            <p:nvPr/>
          </p:nvSpPr>
          <p:spPr>
            <a:xfrm>
              <a:off x="5648400" y="5843520"/>
              <a:ext cx="3908520" cy="642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n it CO-delivers the message and updates its timestam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3490560" y="5764320"/>
              <a:ext cx="2217960" cy="3427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0" y="6114960"/>
            <a:ext cx="5603760" cy="703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a process can immediatel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-deliv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itself its own messages (not show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omment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14000" y="1387080"/>
            <a:ext cx="8859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after delivering a message from </a:t>
            </a:r>
            <a:r>
              <a:rPr b="0" i="1" lang="en-GB" sz="28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GB" sz="2800" spc="-1" strike="noStrike" baseline="-25000">
                <a:solidFill>
                  <a:srgbClr val="663300"/>
                </a:solidFill>
                <a:latin typeface="Arial"/>
              </a:rPr>
              <a:t>j</a:t>
            </a: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, process </a:t>
            </a:r>
            <a:r>
              <a:rPr b="0" i="1" lang="en-GB" sz="28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GB" sz="28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 updates its vector timestamp 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by adding 1 to the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j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th element of its timestamp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compare the vector clock rule where </a:t>
            </a:r>
            <a:br>
              <a:rPr sz="2800"/>
            </a:br>
            <a:r>
              <a:rPr b="0" i="1" lang="en-GB" sz="2800" spc="-1" strike="noStrike">
                <a:solidFill>
                  <a:srgbClr val="663300"/>
                </a:solidFill>
                <a:latin typeface="Arial"/>
              </a:rPr>
              <a:t>V</a:t>
            </a:r>
            <a:r>
              <a:rPr b="0" lang="en-GB" sz="28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[</a:t>
            </a:r>
            <a:r>
              <a:rPr b="0" i="1" lang="en-GB" sz="2800" spc="-1" strike="noStrike">
                <a:solidFill>
                  <a:srgbClr val="663300"/>
                </a:solidFill>
                <a:latin typeface="Arial"/>
              </a:rPr>
              <a:t>j</a:t>
            </a: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] := max(</a:t>
            </a:r>
            <a:r>
              <a:rPr b="0" i="1" lang="en-GB" sz="2800" spc="-1" strike="noStrike">
                <a:solidFill>
                  <a:srgbClr val="663300"/>
                </a:solidFill>
                <a:latin typeface="Arial"/>
              </a:rPr>
              <a:t>V</a:t>
            </a:r>
            <a:r>
              <a:rPr b="0" i="1" lang="en-GB" sz="2800" spc="-1" strike="noStrike" baseline="-25000">
                <a:solidFill>
                  <a:srgbClr val="663300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[</a:t>
            </a:r>
            <a:r>
              <a:rPr b="0" i="1" lang="en-GB" sz="2800" spc="-1" strike="noStrike">
                <a:solidFill>
                  <a:srgbClr val="663300"/>
                </a:solidFill>
                <a:latin typeface="Arial"/>
              </a:rPr>
              <a:t>j</a:t>
            </a: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], </a:t>
            </a:r>
            <a:r>
              <a:rPr b="0" i="1" lang="en-GB" sz="28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[</a:t>
            </a:r>
            <a:r>
              <a:rPr b="0" i="1" lang="en-GB" sz="2800" spc="-1" strike="noStrike">
                <a:solidFill>
                  <a:srgbClr val="663300"/>
                </a:solidFill>
                <a:latin typeface="Arial"/>
              </a:rPr>
              <a:t>j</a:t>
            </a: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]) for </a:t>
            </a:r>
            <a:r>
              <a:rPr b="0" i="1" lang="en-GB" sz="2800" spc="-1" strike="noStrike">
                <a:solidFill>
                  <a:srgbClr val="663300"/>
                </a:solidFill>
                <a:latin typeface="Arial"/>
              </a:rPr>
              <a:t>j</a:t>
            </a: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=1, 2, ...N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in this algorithm we know that only the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j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th element will increase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for an outline of the proof see page 449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if we use </a:t>
            </a:r>
            <a:r>
              <a:rPr b="0" i="1" lang="en-GB" sz="2800" spc="-1" strike="noStrike">
                <a:solidFill>
                  <a:srgbClr val="663300"/>
                </a:solidFill>
                <a:latin typeface="Arial"/>
              </a:rPr>
              <a:t>R-multicast</a:t>
            </a: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 instead of </a:t>
            </a:r>
            <a:r>
              <a:rPr b="0" i="1" lang="en-GB" sz="2800" spc="-1" strike="noStrike">
                <a:solidFill>
                  <a:srgbClr val="663300"/>
                </a:solidFill>
                <a:latin typeface="Arial"/>
              </a:rPr>
              <a:t>B-multicast</a:t>
            </a: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 then the protocol is reliable as well as causally ordered. 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If we combine it with the sequencer algorithm we get total and causal ordering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omments on multicast protocol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we need to have protocols for overlapping groups because applications do need to subscribe to several groups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definitions of ‘global FIFO ordering’ etc on page 450 and some references to papers on them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multicast in synchronous and asynchronous systems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all of our algorithms do work in both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reliable and totally ordered multicast 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can be implemented in a synchronous system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but is impossible in an asynchronous system (reasons discussed in consensus section - paper by Fischer et al.)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Multicast communication can specify requirements for reliability and ordering, in terms of integrity, validity and agreement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B-multicas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a correct process will eventually deliver a message provided the multicaster does not crash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reliable multicas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in which the correct processes agree on the set of messages to be delivered;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we showed two  implementations: over B-multicast and IP multicast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delivery ordering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FIFO, total  and causal delivery ordering.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FIFO ordering by means of senders’ sequence numbers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total ordering by means of a sequencer or  by agreement of sequence numbers between processes in a group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causal ordering by means of vector timestamps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the hold-back queue is a useful component in implementing multicast protocols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ntroduction to multicast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Multicast communication requires coordination and agreement. The aim is for members of a group to receive copies of messages sent to the group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Many different delivery guarantees are possible 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e.g. agree on the set of messages received or on delivery ordering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A process can multicast by the use of a single operation instead of a send to each member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For example in IP multicast 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aSocket.send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2000" spc="-1" strike="noStrike">
                <a:solidFill>
                  <a:srgbClr val="663300"/>
                </a:solidFill>
                <a:latin typeface="Arial"/>
              </a:rPr>
              <a:t>aMessage</a:t>
            </a: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The single operation allows for: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efficiency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I.e. send once on each link, using hardware multicast when available, e.g. multicast from a computer in London to two in Beijing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delivery guarantees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e.g. can’t make a guarantee if multicast is implemented as multiple sends and the sender fails. Can also do ordering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8320" y="484200"/>
            <a:ext cx="7932960" cy="42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Many projects - Amoeba, Isis, Transis, Horus (refs p43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7680" y="498600"/>
            <a:ext cx="825480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What is meant by[the term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broadcas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ystem model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775720" cy="5095800"/>
          </a:xfrm>
          <a:prstGeom prst="rect">
            <a:avLst/>
          </a:prstGeom>
          <a:solidFill>
            <a:srgbClr val="94e1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The system consists of a collection of processes which can communicate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reliably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over 1-1 channels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Processes fail only by crashing (no arbitrary failures)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Processes are members of groups - which are the destinations of multicast messages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In general process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can belong to more than one group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Operations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multicast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) sends message </a:t>
            </a: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 to all members of process group </a:t>
            </a: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deliver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) is called to get a multicast message delivered. It is different from </a:t>
            </a: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receive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 as it may be delayed to allow for ordering or reliability.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Multicast message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carries the id of the sending process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sender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) and the id of the destination group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group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We assume there is no falsification of the origin and destination of messages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Open and closed group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Closed groups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only members can send to group, a member delivers to itself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ey are useful for coordination of groups of cooperating servers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Open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ey are useful for notification of events to groups of interested processes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720800" y="3597120"/>
            <a:ext cx="6728040" cy="2754360"/>
            <a:chOff x="1720800" y="3597120"/>
            <a:chExt cx="6728040" cy="275436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1720800" y="3597120"/>
              <a:ext cx="6005520" cy="27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6980400" y="5808600"/>
              <a:ext cx="146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Figure 11.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1240" y="500040"/>
            <a:ext cx="715896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es IP multicast support open and closed group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39200" y="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Reliability of one-to-one communication(Ch.2 page 57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3446280"/>
          </a:xfrm>
          <a:prstGeom prst="rect">
            <a:avLst/>
          </a:prstGeom>
          <a:solidFill>
            <a:srgbClr val="91c3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e term </a:t>
            </a:r>
            <a:r>
              <a:rPr b="0" i="1" lang="en-US" sz="2800" spc="-1" strike="noStrike">
                <a:solidFill>
                  <a:srgbClr val="663300"/>
                </a:solidFill>
                <a:latin typeface="Arial"/>
              </a:rPr>
              <a:t>reliable 1-1 communication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is defined in terms of </a:t>
            </a:r>
            <a:r>
              <a:rPr b="0" i="1" lang="en-US" sz="2800" spc="-1" strike="noStrike">
                <a:solidFill>
                  <a:srgbClr val="663300"/>
                </a:solidFill>
                <a:latin typeface="Arial"/>
              </a:rPr>
              <a:t>validity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663300"/>
                </a:solidFill>
                <a:latin typeface="Arial"/>
              </a:rPr>
              <a:t>integrity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as follows: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validity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any message in the outgoing message buffer is eventually delivered to the incoming message buffer;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integrity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the message received is identical to one sent, and no messages are delivered twice.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8040" y="272880"/>
            <a:ext cx="9124920" cy="520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How do we achieve validi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0920" y="5718240"/>
            <a:ext cx="5955120" cy="907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integr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663300"/>
                </a:solidFill>
                <a:latin typeface="Arial"/>
              </a:rPr>
              <a:t>by 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use checksums, reject duplicates (e.g. due to retries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If allowing for malicious users, use security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techn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299880"/>
            <a:ext cx="8902440" cy="520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How do we achieve integri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3080" y="5099040"/>
            <a:ext cx="516420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validity - 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by use of acknowledgements and re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1.4.1 Basic multicast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2520" y="1424160"/>
            <a:ext cx="8859600" cy="36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A correct process will eventually deliver the message provided the </a:t>
            </a:r>
            <a:r>
              <a:rPr b="1" lang="en-GB" sz="2400" spc="-1" strike="noStrike">
                <a:solidFill>
                  <a:srgbClr val="663300"/>
                </a:solidFill>
                <a:latin typeface="Arial"/>
              </a:rPr>
              <a:t>multicaster does not crash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note that IP multicast does not give this guarantee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The primitives are called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B-multicas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B-deliver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A straightforward but ineffective method of implementation: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use a reliable  1-1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send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(i.e. with integrity and validity as above)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To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B-multicast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,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):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for each process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663300"/>
                </a:solidFill>
                <a:latin typeface="Symbol"/>
                <a:ea typeface="Symbol"/>
              </a:rPr>
              <a:t>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send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On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receive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)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at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: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B-deliver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(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) at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Problem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if the number of processes is large, the protocol will suffer from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ack-implosion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3160" y="460440"/>
            <a:ext cx="368604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are ack-implos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3320" y="5070600"/>
            <a:ext cx="814716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practical implementation of Basic Multicast may be achieved over IP multicast (on next slide, but not sh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mplementation of basic multicast over IP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imes New Roman"/>
              </a:rPr>
              <a:t>Each process </a:t>
            </a:r>
            <a:r>
              <a:rPr b="0" i="1" lang="en-GB" sz="2400" spc="-1" strike="noStrike">
                <a:solidFill>
                  <a:srgbClr val="6633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663300"/>
                </a:solidFill>
                <a:latin typeface="Times New Roman"/>
              </a:rPr>
              <a:t> maintains: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663300"/>
                </a:solidFill>
                <a:latin typeface="Times New Roman"/>
              </a:rPr>
              <a:t>a sequence number,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S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Times New Roman"/>
              </a:rPr>
              <a:t> for each group it belongs to and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663300"/>
                </a:solidFill>
                <a:latin typeface="Times New Roman"/>
              </a:rPr>
              <a:t>R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Times New Roman"/>
              </a:rPr>
              <a:t>q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Times New Roman"/>
              </a:rPr>
              <a:t>g</a:t>
            </a:r>
            <a:r>
              <a:rPr b="0" lang="en-GB" sz="1800" spc="-1" strike="noStrike">
                <a:solidFill>
                  <a:srgbClr val="663300"/>
                </a:solidFill>
                <a:latin typeface="Times New Roman"/>
              </a:rPr>
              <a:t>, the sequence number of the latest message it has delivered from process </a:t>
            </a:r>
            <a:r>
              <a:rPr b="0" i="1" lang="en-GB" sz="1800" spc="-1" strike="noStrike">
                <a:solidFill>
                  <a:srgbClr val="663300"/>
                </a:solidFill>
                <a:latin typeface="Times New Roman"/>
              </a:rPr>
              <a:t>q</a:t>
            </a:r>
            <a:r>
              <a:rPr b="0" lang="en-GB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imes New Roman"/>
              </a:rPr>
              <a:t>For process </a:t>
            </a:r>
            <a:r>
              <a:rPr b="0" i="1" lang="en-GB" sz="2400" spc="-1" strike="noStrike">
                <a:solidFill>
                  <a:srgbClr val="6633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663300"/>
                </a:solidFill>
                <a:latin typeface="Times New Roman"/>
              </a:rPr>
              <a:t> to </a:t>
            </a:r>
            <a:r>
              <a:rPr b="0" i="1" lang="en-GB" sz="2400" spc="-1" strike="noStrike">
                <a:solidFill>
                  <a:srgbClr val="663300"/>
                </a:solidFill>
                <a:latin typeface="Times New Roman"/>
              </a:rPr>
              <a:t>B-multicast</a:t>
            </a:r>
            <a:r>
              <a:rPr b="0" lang="en-GB" sz="2400" spc="-1" strike="noStrike">
                <a:solidFill>
                  <a:srgbClr val="663300"/>
                </a:solidFill>
                <a:latin typeface="Times New Roman"/>
              </a:rPr>
              <a:t> a message </a:t>
            </a:r>
            <a:r>
              <a:rPr b="0" i="1" lang="en-GB" sz="2400" spc="-1" strike="noStrike">
                <a:solidFill>
                  <a:srgbClr val="663300"/>
                </a:solidFill>
                <a:latin typeface="Times New Roman"/>
              </a:rPr>
              <a:t>m</a:t>
            </a:r>
            <a:r>
              <a:rPr b="0" lang="en-GB" sz="2400" spc="-1" strike="noStrike">
                <a:solidFill>
                  <a:srgbClr val="663300"/>
                </a:solidFill>
                <a:latin typeface="Times New Roman"/>
              </a:rPr>
              <a:t> to group </a:t>
            </a:r>
            <a:r>
              <a:rPr b="0" i="1" lang="en-GB" sz="2400" spc="-1" strike="noStrike">
                <a:solidFill>
                  <a:srgbClr val="6633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Times New Roman"/>
              </a:rPr>
              <a:t>it piggybacks  </a:t>
            </a:r>
            <a:r>
              <a:rPr b="0" i="1" lang="en-GB" sz="1800" spc="-1" strike="noStrike">
                <a:solidFill>
                  <a:srgbClr val="663300"/>
                </a:solidFill>
                <a:latin typeface="Times New Roman"/>
              </a:rPr>
              <a:t>S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Times New Roman"/>
              </a:rPr>
              <a:t>g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Times New Roman"/>
              </a:rPr>
              <a:t>p </a:t>
            </a:r>
            <a:r>
              <a:rPr b="0" i="1" lang="en-GB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663300"/>
                </a:solidFill>
                <a:latin typeface="Times New Roman"/>
              </a:rPr>
              <a:t>on</a:t>
            </a:r>
            <a:r>
              <a:rPr b="0" i="1" lang="en-GB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663300"/>
                </a:solidFill>
                <a:latin typeface="Times New Roman"/>
              </a:rPr>
              <a:t>the message</a:t>
            </a:r>
            <a:r>
              <a:rPr b="0" i="1" lang="en-GB" sz="1800" spc="-1" strike="noStrike">
                <a:solidFill>
                  <a:srgbClr val="663300"/>
                </a:solidFill>
                <a:latin typeface="Times New Roman"/>
              </a:rPr>
              <a:t> m, </a:t>
            </a:r>
            <a:r>
              <a:rPr b="0" lang="en-GB" sz="1800" spc="-1" strike="noStrike">
                <a:solidFill>
                  <a:srgbClr val="663300"/>
                </a:solidFill>
                <a:latin typeface="Times New Roman"/>
              </a:rPr>
              <a:t>using IP multicast to send it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Times New Roman"/>
              </a:rPr>
              <a:t>the piggybacked sequence numbers allow recipients to learn about messages they have not received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imes New Roman"/>
              </a:rPr>
              <a:t>On</a:t>
            </a:r>
            <a:r>
              <a:rPr b="0" i="1" lang="en-GB" sz="2400" spc="-1" strike="noStrike">
                <a:solidFill>
                  <a:srgbClr val="663300"/>
                </a:solidFill>
                <a:latin typeface="Times New Roman"/>
              </a:rPr>
              <a:t> receive </a:t>
            </a:r>
            <a:r>
              <a:rPr b="0" lang="en-GB" sz="2400" spc="-1" strike="noStrike">
                <a:solidFill>
                  <a:srgbClr val="663300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663300"/>
                </a:solidFill>
                <a:latin typeface="Times New Roman"/>
              </a:rPr>
              <a:t>g</a:t>
            </a:r>
            <a:r>
              <a:rPr b="0" lang="en-GB" sz="2400" spc="-1" strike="noStrike">
                <a:solidFill>
                  <a:srgbClr val="663300"/>
                </a:solidFill>
                <a:latin typeface="Times New Roman"/>
              </a:rPr>
              <a:t>,</a:t>
            </a:r>
            <a:r>
              <a:rPr b="0" i="1" lang="en-GB" sz="2400" spc="-1" strike="noStrike">
                <a:solidFill>
                  <a:srgbClr val="663300"/>
                </a:solidFill>
                <a:latin typeface="Times New Roman"/>
              </a:rPr>
              <a:t>m, S</a:t>
            </a:r>
            <a:r>
              <a:rPr b="0" lang="en-GB" sz="2400" spc="-1" strike="noStrike">
                <a:solidFill>
                  <a:srgbClr val="663300"/>
                </a:solidFill>
                <a:latin typeface="Times New Roman"/>
              </a:rPr>
              <a:t>) at</a:t>
            </a:r>
            <a:r>
              <a:rPr b="0" i="1" lang="en-GB" sz="2400" spc="-1" strike="noStrike">
                <a:solidFill>
                  <a:srgbClr val="663300"/>
                </a:solidFill>
                <a:latin typeface="Times New Roman"/>
              </a:rPr>
              <a:t> p</a:t>
            </a:r>
            <a:r>
              <a:rPr b="0" lang="en-GB" sz="2400" spc="-1" strike="noStrike">
                <a:solidFill>
                  <a:srgbClr val="6633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Times New Roman"/>
              </a:rPr>
              <a:t>if</a:t>
            </a:r>
            <a:r>
              <a:rPr b="0" i="1" lang="en-GB" sz="1800" spc="-1" strike="noStrike">
                <a:solidFill>
                  <a:srgbClr val="663300"/>
                </a:solidFill>
                <a:latin typeface="Times New Roman"/>
              </a:rPr>
              <a:t> S = R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Times New Roman"/>
              </a:rPr>
              <a:t>q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Times New Roman"/>
              </a:rPr>
              <a:t>g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663300"/>
                </a:solidFill>
                <a:latin typeface="Times New Roman"/>
              </a:rPr>
              <a:t>+1 B-deliver </a:t>
            </a:r>
            <a:r>
              <a:rPr b="0" lang="en-GB" sz="1800" spc="-1" strike="noStrike">
                <a:solidFill>
                  <a:srgbClr val="663300"/>
                </a:solidFill>
                <a:latin typeface="Times New Roman"/>
              </a:rPr>
              <a:t>(</a:t>
            </a:r>
            <a:r>
              <a:rPr b="0" i="1" lang="en-GB" sz="1800" spc="-1" strike="noStrike">
                <a:solidFill>
                  <a:srgbClr val="663300"/>
                </a:solidFill>
                <a:latin typeface="Times New Roman"/>
              </a:rPr>
              <a:t>m</a:t>
            </a:r>
            <a:r>
              <a:rPr b="0" lang="en-GB" sz="1800" spc="-1" strike="noStrike">
                <a:solidFill>
                  <a:srgbClr val="663300"/>
                </a:solidFill>
                <a:latin typeface="Times New Roman"/>
              </a:rPr>
              <a:t>)</a:t>
            </a:r>
            <a:r>
              <a:rPr b="0" i="1" lang="en-GB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663300"/>
                </a:solidFill>
                <a:latin typeface="Times New Roman"/>
              </a:rPr>
              <a:t>and increment</a:t>
            </a:r>
            <a:r>
              <a:rPr b="0" i="1" lang="en-GB" sz="1800" spc="-1" strike="noStrike">
                <a:solidFill>
                  <a:srgbClr val="663300"/>
                </a:solidFill>
                <a:latin typeface="Times New Roman"/>
              </a:rPr>
              <a:t> R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Times New Roman"/>
              </a:rPr>
              <a:t>q</a:t>
            </a:r>
            <a:r>
              <a:rPr b="0" lang="en-GB" sz="1800" spc="-1" strike="noStrike" baseline="-25000">
                <a:solidFill>
                  <a:srgbClr val="663300"/>
                </a:solidFill>
                <a:latin typeface="Times New Roman"/>
              </a:rPr>
              <a:t>g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663300"/>
                </a:solidFill>
                <a:latin typeface="Times New Roman"/>
              </a:rPr>
              <a:t>by 1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Times New Roman"/>
              </a:rPr>
              <a:t>if </a:t>
            </a:r>
            <a:r>
              <a:rPr b="0" i="1" lang="en-GB" sz="1800" spc="-1" strike="noStrike">
                <a:solidFill>
                  <a:srgbClr val="663300"/>
                </a:solidFill>
                <a:latin typeface="Times New Roman"/>
              </a:rPr>
              <a:t>S &lt; R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Times New Roman"/>
              </a:rPr>
              <a:t>q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Times New Roman"/>
              </a:rPr>
              <a:t>g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663300"/>
                </a:solidFill>
                <a:latin typeface="Times New Roman"/>
              </a:rPr>
              <a:t>+1 </a:t>
            </a:r>
            <a:r>
              <a:rPr b="0" lang="en-GB" sz="1800" spc="-1" strike="noStrike">
                <a:solidFill>
                  <a:srgbClr val="663300"/>
                </a:solidFill>
                <a:latin typeface="Times New Roman"/>
              </a:rPr>
              <a:t>reject the message because it has been delivered before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Times New Roman"/>
              </a:rPr>
              <a:t>if </a:t>
            </a:r>
            <a:r>
              <a:rPr b="0" i="1" lang="en-GB" sz="1800" spc="-1" strike="noStrike">
                <a:solidFill>
                  <a:srgbClr val="663300"/>
                </a:solidFill>
                <a:latin typeface="Times New Roman"/>
              </a:rPr>
              <a:t>S &gt; R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Times New Roman"/>
              </a:rPr>
              <a:t>q</a:t>
            </a:r>
            <a:r>
              <a:rPr b="0" i="1" lang="en-GB" sz="1800" spc="-1" strike="noStrike" baseline="-25000">
                <a:solidFill>
                  <a:srgbClr val="663300"/>
                </a:solidFill>
                <a:latin typeface="Times New Roman"/>
              </a:rPr>
              <a:t>g</a:t>
            </a:r>
            <a:r>
              <a:rPr b="0" i="1" lang="en-GB" sz="1800" spc="-1" strike="noStrike" baseline="30000">
                <a:solidFill>
                  <a:srgbClr val="663300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663300"/>
                </a:solidFill>
                <a:latin typeface="Times New Roman"/>
              </a:rPr>
              <a:t>+1 </a:t>
            </a:r>
            <a:r>
              <a:rPr b="0" lang="en-GB" sz="1800" spc="-1" strike="noStrike">
                <a:solidFill>
                  <a:srgbClr val="663300"/>
                </a:solidFill>
                <a:latin typeface="Times New Roman"/>
              </a:rPr>
              <a:t>note that a message is missing, request missing message from sender. (will use a hold-back queue to be discussed later on)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imes New Roman"/>
              </a:rPr>
              <a:t>If the sender crashes, then a message may be delivered to some members of the group but not others.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1.4.2 Reliable multicast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5360" y="1336320"/>
            <a:ext cx="885960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The protocol is correct even if the multicaster crashes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it satisfies criteria for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validity, integrity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agreement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it provides operations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R-multicas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R-deliver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Integrity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- a correct process,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delivers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at most once. </a:t>
            </a:r>
            <a:br>
              <a:rPr sz="2400"/>
            </a:b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Also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663300"/>
                </a:solidFill>
                <a:latin typeface="Symbol"/>
                <a:ea typeface="Symbol"/>
              </a:rPr>
              <a:t>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group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) and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was supplied to a  multicast operation by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sender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Validity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- if a correct process multicasts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, it will eventually deliver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Agreemen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- if a correct process delivers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then all correct processes in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group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) will eventually deliver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183600" y="6210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1560" y="5194440"/>
            <a:ext cx="475560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integrity as for 1-1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1840" y="5710320"/>
            <a:ext cx="778536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validity -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simplify by choosing sender as the on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33720" y="6215040"/>
            <a:ext cx="890856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agreement - 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all or nothing - atomicity, even if multicaster cras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21:59:47Z</dcterms:created>
  <dc:creator>George Coulouris</dc:creator>
  <dc:description/>
  <dc:language>en-US</dc:language>
  <cp:lastModifiedBy>Jean Dollimore</cp:lastModifiedBy>
  <cp:lastPrinted>2000-11-12T21:05:10Z</cp:lastPrinted>
  <dcterms:modified xsi:type="dcterms:W3CDTF">2001-12-30T17:15:13Z</dcterms:modified>
  <cp:revision>231</cp:revision>
  <dc:subject/>
  <dc:title>Figure 15.1 A distributed multimedia system</dc:title>
</cp:coreProperties>
</file>